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95A2D-DF94-4E0F-86B4-BD696865C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AD5D-80B5-462D-A16C-02B9B3F5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E4E6C-F884-49A7-94D3-62D96888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FC6EF-00FA-46D9-BFAD-91CFD14A0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07297-9517-40F7-A61A-3EF6D3736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F6708-0EBB-4D98-9405-B83859960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2203-6833-4292-A845-EEE779278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2C2DF-4C7E-4E9A-8A60-4554025CC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5A921-5FEB-4861-90F5-42C5B1845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AED46-BC97-43F1-B54E-D07764CF7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74E8-1FB1-4F1A-AB26-7F892B153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02548-F73D-40E1-8B37-6BD4977C1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A8249-5304-4DE5-B522-A3DABE34E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0F4F-897F-4510-A59E-FFB7750A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5945D-3A3B-4988-A95F-207C3FE22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8057-7DC3-47C2-B731-147432AAB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C7E57-4980-4CC1-AD95-3F7EC3FE1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2B274-5698-4F25-A96C-23A42D6899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ECF90-C621-4CB3-B162-86E59F9A7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1CC07-C1FF-46DA-BE08-C4D36DBBE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35315-3F6C-433A-B998-E2243832A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9A0FB-CC3C-4F99-BDFC-3F5C163A4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C999-AC58-4037-A715-F87CBE56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21D05-F8F1-4E36-A07B-24FF0F7F3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49119-74C7-4F92-B3FD-0D0331EBA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8628A-36FA-4CBA-A2CA-20C58CD2A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7A621-4BDB-46E9-B9D4-4A2A999A4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56E06-886D-4021-9193-56C81D201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42528-5EBA-4295-B85A-13B4C212E1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2DC4AB-2CB8-489A-880A-9C0AFF9F2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65737D-9FE4-43AF-A796-F2A0E32FE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21DB1E-7703-4135-BF84-5B050B208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0300F-01A9-41DE-A327-B9BE9B512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33D8C-993C-42B4-A296-553413C9F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096D3-8811-4B81-93A9-8D162AD72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CBA40-D1CF-423F-853F-62053B17F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FF6A3-2243-42D0-951B-B8CC32DF8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CB862-15C3-4D6F-B416-2151498AB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CB221-53BA-42E9-9A0A-27E6A281C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EB2BD-CBCD-42A1-8800-2A1A4D394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0A055-791F-4E33-9E7C-FDEF1F026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D66AF-325E-489B-BBD1-A2BB907424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42FB45-1E6E-427E-B128-E13CAACB7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F4A0E4-C684-4751-9FA4-B44F0170F6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6B34-4C3F-455D-84C9-68C4C5F6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A175A-5F95-43B8-94D6-1D4BDD50D9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F2864-B24E-490A-BEF8-FA92F0CF2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C66FD-238A-42D7-95C1-BC8C9C7ED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900F9-F041-41D2-A24F-DAC58B163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0F4E1-2688-4F66-8656-6A9C397ED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24BE0-A4A9-4541-BB1E-C4D1F586C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0B951-4C22-4FCE-84BF-0776A032C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0211A-C71E-4915-A743-E5C430A8E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84B17-FADC-4DFA-A89E-B5642776D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A272F8-98C5-4BAD-9CDC-0D2A7B641C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989A3-B1E7-4B83-AB43-2D976161C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635F20-6DD9-4379-8E96-2F7087BE5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C8027-4053-4306-A232-9A2A0C7213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6FF384-3198-4F3B-8FEC-EF2B696B8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ED5DB-BADE-45C6-8E4C-E8C62E424B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63319-FF50-499D-AAA5-28D017C2D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E7E4B-F5A7-408F-924F-081935327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F87DF-9515-4443-B13C-EED3F111C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FE271-8A5F-4BF1-8B46-B1ABEE16F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5332D-7922-472D-8DB5-8D6AFB53C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86FB6-AD1D-4607-B907-03CAEEE3C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ADC42-AE19-4558-9D5E-811EF16DA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1DC57D-1461-4301-B3E8-D13D3BEF2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FD25A3-A6F5-41EF-8CE7-6685494A0A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F4A526-C601-454B-BC1D-487405CFEA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7860D9-94D4-4BD0-A3DB-D252BAA6F8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5948A-B0F0-42C8-8060-1D649E0D5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ED70C-8427-4590-8131-CFEB29611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9D269-9C57-4CB4-9F33-81D66840F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12FCE9-A422-47F0-A3C9-746E95F8F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0E27A-9D43-413B-87AD-78B77805E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93321-13BA-4CC2-8E08-41F6B2713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353B-9261-43A9-8E7B-15F07BE9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DE9F9-77B9-4A74-AF50-39388646B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ADDF6-4174-4F3F-B963-788191D29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EF5EC-16E4-44DC-ADBC-9CB432C63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90B15E-7CE0-4C8E-8D55-51660A8872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2498AF-4454-41F7-8C7E-954AD5281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6650089-0662-4840-8F64-8BD2744B106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D446DA-7212-4AF7-8F7C-BEEFAFF436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D1445D-5731-4088-8A1D-BA1A0529CEF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6C26A3-BE03-47F2-AE9C-721A0F92CF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D500E2-00D5-4878-9703-945CAB6B02E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7D145-7272-4F63-B4EE-2B881E21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26182B4-C825-4A9E-8768-7243E8E7A7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E9BCE7-85FD-4D6F-8DE8-FD62DA80E7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57383B-A037-47FC-BDA1-0D7459FA61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6C0996-6AFB-4BCC-8103-7B35B10F35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63C26B-9C6C-4F00-8B4F-205BFEA00A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C67BD22-E877-4434-BE8B-505188E96F8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4C56DDD-C134-40CC-B470-2C2138058EC8}"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4AE1-ADCB-4087-9018-C9B2D4F141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2541-6718-4C9B-AD83-81C7F50C439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20EA-1AF4-4960-8B85-C7BCFDC05C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A45D-27D3-467B-84C3-C7FF71CE50B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1"/>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0343-FA01-47B0-8EBB-3B71DD439374}"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11"/>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1797-4C19-49AC-AA03-BCAC53C4A7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BDBD-9275-4AA4-A036-9354D730539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9"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2190-88ED-442F-AC08-55F0DABD14D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11"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Calibri Light"/>
              </a:rPr>
              <a:t>Software Defects - I</a:t>
            </a:r>
            <a:endParaRPr b="0" lang="en-US" sz="8000" spc="-1" strike="noStrike">
              <a:solidFill>
                <a:srgbClr val="404040"/>
              </a:solidFill>
              <a:latin typeface="Calibri Light"/>
            </a:endParaRPr>
          </a:p>
        </p:txBody>
      </p:sp>
      <p:sp>
        <p:nvSpPr>
          <p:cNvPr id="349" name="Rectangle 18"/>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D059-3000-46F6-A0A6-683158F0DB2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rrors of Commission</a:t>
            </a:r>
            <a:endParaRPr b="0" lang="en-US" sz="4800" spc="-1" strike="noStrike">
              <a:solidFill>
                <a:srgbClr val="404040"/>
              </a:solidFill>
              <a:latin typeface="Calibri Light"/>
            </a:endParaRPr>
          </a:p>
        </p:txBody>
      </p:sp>
      <p:sp>
        <p:nvSpPr>
          <p:cNvPr id="375"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omething wrong is don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 classic example at the code level would be going through a loop one time too many or branching on the wrong addres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6"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6EF8-E78E-4436-AE93-4EB1686731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rrors of Omission</a:t>
            </a:r>
            <a:endParaRPr b="0" lang="en-US" sz="4800" spc="-1" strike="noStrike">
              <a:solidFill>
                <a:srgbClr val="404040"/>
              </a:solidFill>
              <a:latin typeface="Calibri Light"/>
            </a:endParaRPr>
          </a:p>
        </p:txBody>
      </p:sp>
      <p:sp>
        <p:nvSpPr>
          <p:cNvPr id="37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omething left out by accide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r example, omitting a parentheses in nested express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AB47-2D21-425F-B581-2C600A320EC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rrors of Clarity and Ambiguity</a:t>
            </a:r>
            <a:endParaRPr b="0" lang="en-US" sz="4800" spc="-1" strike="noStrike">
              <a:solidFill>
                <a:srgbClr val="404040"/>
              </a:solidFill>
              <a:latin typeface="Calibri Light"/>
            </a:endParaRPr>
          </a:p>
        </p:txBody>
      </p:sp>
      <p:sp>
        <p:nvSpPr>
          <p:cNvPr id="38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ifferent interpretations of the same stateme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s kind of error is common with all natural language requirements and specification documents and user manuals, too.</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D50F-1E99-494E-9904-281EB785E0C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rrors of Speed and Capacity</a:t>
            </a:r>
            <a:endParaRPr b="0" lang="en-US" sz="4800" spc="-1" strike="noStrike">
              <a:solidFill>
                <a:srgbClr val="404040"/>
              </a:solidFill>
              <a:latin typeface="Calibri Light"/>
            </a:endParaRPr>
          </a:p>
        </p:txBody>
      </p:sp>
      <p:sp>
        <p:nvSpPr>
          <p:cNvPr id="38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pplication works, but not fast enough </a:t>
            </a:r>
            <a:endParaRPr b="0" lang="en-US" sz="2000" spc="-1" strike="noStrike">
              <a:solidFill>
                <a:srgbClr val="404040"/>
              </a:solidFill>
              <a:latin typeface="Calibri"/>
            </a:endParaRPr>
          </a:p>
        </p:txBody>
      </p:sp>
      <p:sp>
        <p:nvSpPr>
          <p:cNvPr id="38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2413-9BB9-44A6-BE08-488DAF4A385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ftware defects can be found in any of the documents and work products including very serious ones in cost estimates and development pla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ever, there are seven major classes of software work products where defects have a strong probability of triggering some kind of request for warranty repair if they reach the field</a:t>
            </a:r>
            <a:endParaRPr b="0" lang="en-US" sz="2800" spc="-1" strike="noStrike">
              <a:solidFill>
                <a:srgbClr val="404040"/>
              </a:solidFill>
              <a:latin typeface="Calibri"/>
            </a:endParaRPr>
          </a:p>
        </p:txBody>
      </p:sp>
      <p:sp>
        <p:nvSpPr>
          <p:cNvPr id="388"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91B8-3E7D-4D8D-A627-C9FCD3B6770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oftware Defect Origins</a:t>
            </a:r>
            <a:endParaRPr b="0" lang="en-US" sz="4800" spc="-1" strike="noStrike">
              <a:solidFill>
                <a:srgbClr val="404040"/>
              </a:solidFill>
              <a:latin typeface="Calibri Light"/>
            </a:endParaRPr>
          </a:p>
        </p:txBody>
      </p:sp>
      <p:sp>
        <p:nvSpPr>
          <p:cNvPr id="39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Requirement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Desig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Source cod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User Documenta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due to “Bad fixes”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Data and Tabl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in Test Cases</a:t>
            </a:r>
            <a:endParaRPr b="0" lang="en-US" sz="2000" spc="-1" strike="noStrike">
              <a:solidFill>
                <a:srgbClr val="404040"/>
              </a:solidFill>
              <a:latin typeface="Calibri"/>
            </a:endParaRPr>
          </a:p>
        </p:txBody>
      </p:sp>
      <p:sp>
        <p:nvSpPr>
          <p:cNvPr id="39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3C97-EFD9-477E-96A5-AFCB60BE698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e’ll discuss all of them in detail, when we talk about different processes of software development life cycle</a:t>
            </a:r>
            <a:endParaRPr b="0" lang="en-US" sz="2000" spc="-1" strike="noStrike">
              <a:solidFill>
                <a:srgbClr val="404040"/>
              </a:solidFill>
              <a:latin typeface="Calibri"/>
            </a:endParaRPr>
          </a:p>
        </p:txBody>
      </p:sp>
      <p:sp>
        <p:nvSpPr>
          <p:cNvPr id="39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0262-81EE-4A2D-882A-7C9AB977494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ect Discovery</a:t>
            </a:r>
            <a:endParaRPr b="0" lang="en-US" sz="4800" spc="-1" strike="noStrike">
              <a:solidFill>
                <a:srgbClr val="404040"/>
              </a:solidFill>
              <a:latin typeface="Calibri Light"/>
            </a:endParaRPr>
          </a:p>
        </p:txBody>
      </p:sp>
      <p:sp>
        <p:nvSpPr>
          <p:cNvPr id="396"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fects are discovered by developers &amp; testers (usually) before releas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fects are discovered by customers and users (usually) after releas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fects discovered after release can be embarrassing for the development team </a:t>
            </a:r>
            <a:endParaRPr b="0" lang="en-US" sz="2000" spc="-1" strike="noStrike">
              <a:solidFill>
                <a:srgbClr val="404040"/>
              </a:solidFill>
              <a:latin typeface="Calibri"/>
            </a:endParaRPr>
          </a:p>
        </p:txBody>
      </p:sp>
      <p:sp>
        <p:nvSpPr>
          <p:cNvPr id="39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BDC-26C4-4079-B6FB-ABC46F90822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ect Discovery by Customers</a:t>
            </a:r>
            <a:endParaRPr b="0" lang="en-US" sz="4800" spc="-1" strike="noStrike">
              <a:solidFill>
                <a:srgbClr val="404040"/>
              </a:solidFill>
              <a:latin typeface="Calibri Light"/>
            </a:endParaRPr>
          </a:p>
        </p:txBody>
      </p:sp>
      <p:sp>
        <p:nvSpPr>
          <p:cNvPr id="399"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ule 1: Defect discovery is directly related to the number of user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ule 2: Defect discovery is inversely related to the number of defects</a:t>
            </a:r>
            <a:endParaRPr b="0" lang="en-US" sz="2000" spc="-1" strike="noStrike">
              <a:solidFill>
                <a:srgbClr val="404040"/>
              </a:solidFill>
              <a:latin typeface="Calibri"/>
            </a:endParaRPr>
          </a:p>
        </p:txBody>
      </p:sp>
      <p:sp>
        <p:nvSpPr>
          <p:cNvPr id="40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0ACD-1487-4D12-9CB5-2AF6E9D22FC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oftware Defect Elimination Strategies</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ffective defect preven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High levels of defect removal efficienc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ccurate defect prediction before the project begi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ccurate defect tracking during developmen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Useful quality measurement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nsuring high levels of user-satisfaction</a:t>
            </a:r>
            <a:endParaRPr b="0" lang="en-US" sz="2000" spc="-1" strike="noStrike">
              <a:solidFill>
                <a:srgbClr val="404040"/>
              </a:solidFill>
              <a:latin typeface="Calibri"/>
            </a:endParaRPr>
          </a:p>
        </p:txBody>
      </p:sp>
      <p:sp>
        <p:nvSpPr>
          <p:cNvPr id="40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0A9B-3CCA-4825-911B-2CE09D7A838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hat is a Software Defect?</a:t>
            </a:r>
            <a:endParaRPr b="0" lang="en-US" sz="4800" spc="-1" strike="noStrike">
              <a:solidFill>
                <a:srgbClr val="404040"/>
              </a:solidFill>
              <a:latin typeface="Calibri Light"/>
            </a:endParaRPr>
          </a:p>
        </p:txBody>
      </p:sp>
      <p:sp>
        <p:nvSpPr>
          <p:cNvPr id="35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 software defect is an error, flaw, mistake, failure, or fault in software that prevents it from behaving as intended (e.g., producing an incorrect or unexpected resul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oftware defects are also known as software errors or software bugs</a:t>
            </a:r>
            <a:endParaRPr b="0" lang="en-US" sz="2000" spc="-1" strike="noStrike">
              <a:solidFill>
                <a:srgbClr val="404040"/>
              </a:solidFill>
              <a:latin typeface="Calibri"/>
            </a:endParaRPr>
          </a:p>
        </p:txBody>
      </p:sp>
      <p:sp>
        <p:nvSpPr>
          <p:cNvPr id="352"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3FC6-810B-4B9E-94CF-A2042106E60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ect Prevention and Removal</a:t>
            </a:r>
            <a:endParaRPr b="0" lang="en-US" sz="4800" spc="-1" strike="noStrike">
              <a:solidFill>
                <a:srgbClr val="404040"/>
              </a:solidFill>
              <a:latin typeface="Calibri Light"/>
            </a:endParaRPr>
          </a:p>
        </p:txBody>
      </p:sp>
      <p:sp>
        <p:nvSpPr>
          <p:cNvPr id="405"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oth defect prevention and removal techniques are used by the “best-in-the-class” compani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fect prevention is very difficult to understand, study, and quantify. We’ll talk about defect prevent in a later lectur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oth non-test and testing defect removal techniques must be applied</a:t>
            </a:r>
            <a:endParaRPr b="0" lang="en-US" sz="2000" spc="-1" strike="noStrike">
              <a:solidFill>
                <a:srgbClr val="404040"/>
              </a:solidFill>
              <a:latin typeface="Calibri"/>
            </a:endParaRPr>
          </a:p>
        </p:txBody>
      </p:sp>
      <p:sp>
        <p:nvSpPr>
          <p:cNvPr id="406"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3B85-A76D-4C4F-834C-A67E3C92960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Typical Defect Removal</a:t>
            </a:r>
            <a:endParaRPr b="0" lang="en-US" sz="4800" spc="-1" strike="noStrike">
              <a:solidFill>
                <a:srgbClr val="404040"/>
              </a:solidFill>
              <a:latin typeface="Calibri Light"/>
            </a:endParaRPr>
          </a:p>
        </p:txBody>
      </p:sp>
      <p:sp>
        <p:nvSpPr>
          <p:cNvPr id="40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ection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Direct fault detection and removal</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esting</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Failure observation and fault removal</a:t>
            </a:r>
            <a:endParaRPr b="0" lang="en-US" sz="1800" spc="-1" strike="noStrike">
              <a:solidFill>
                <a:srgbClr val="404040"/>
              </a:solidFill>
              <a:latin typeface="Calibri"/>
            </a:endParaRPr>
          </a:p>
        </p:txBody>
      </p:sp>
      <p:sp>
        <p:nvSpPr>
          <p:cNvPr id="40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265F-A6F8-447E-AD6E-893BA6BAB22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spections - 1</a:t>
            </a:r>
            <a:endParaRPr b="0" lang="en-US" sz="4800" spc="-1" strike="noStrike">
              <a:solidFill>
                <a:srgbClr val="404040"/>
              </a:solidFill>
              <a:latin typeface="Calibri Light"/>
            </a:endParaRPr>
          </a:p>
        </p:txBody>
      </p:sp>
      <p:sp>
        <p:nvSpPr>
          <p:cNvPr id="41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ections are critical examinations of software artifacts by human inspectors aimed at discovering and fixing faults in the software system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2"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1276-55F2-4583-B4D9-C2F281DE79C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spections - 2</a:t>
            </a:r>
            <a:endParaRPr b="0" lang="en-US" sz="4800" spc="-1" strike="noStrike">
              <a:solidFill>
                <a:srgbClr val="404040"/>
              </a:solidFill>
              <a:latin typeface="Calibri Light"/>
            </a:endParaRPr>
          </a:p>
        </p:txBody>
      </p:sp>
      <p:sp>
        <p:nvSpPr>
          <p:cNvPr id="4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ections are critical reading and analysis of software code or other software artifacts, such as designs, product specifications, test plans, etc</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ections are typically conducted by multiple human inspectors, through some coordination process. Multiple inspection phases or sessions may be used</a:t>
            </a:r>
            <a:endParaRPr b="0" lang="en-US" sz="2000" spc="-1" strike="noStrike">
              <a:solidFill>
                <a:srgbClr val="404040"/>
              </a:solidFill>
              <a:latin typeface="Calibri"/>
            </a:endParaRPr>
          </a:p>
        </p:txBody>
      </p:sp>
      <p:sp>
        <p:nvSpPr>
          <p:cNvPr id="41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926F-DB7D-4312-877A-5093C7AAFEC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spections - 3</a:t>
            </a:r>
            <a:endParaRPr b="0" lang="en-US" sz="4800" spc="-1" strike="noStrike">
              <a:solidFill>
                <a:srgbClr val="404040"/>
              </a:solidFill>
              <a:latin typeface="Calibri Light"/>
            </a:endParaRPr>
          </a:p>
        </p:txBody>
      </p:sp>
      <p:sp>
        <p:nvSpPr>
          <p:cNvPr id="41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aults are detected directly in inspection by human inspectors, either during their individual inspections or various types of group sess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dentified faults need to be removed as a result of the inspection process, and their removal also needs to be verified</a:t>
            </a:r>
            <a:endParaRPr b="0" lang="en-US" sz="2000" spc="-1" strike="noStrike">
              <a:solidFill>
                <a:srgbClr val="404040"/>
              </a:solidFill>
              <a:latin typeface="Calibri"/>
            </a:endParaRPr>
          </a:p>
        </p:txBody>
      </p:sp>
      <p:sp>
        <p:nvSpPr>
          <p:cNvPr id="418"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B40C-10CE-4B01-8D77-57DE65DDA70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spections - 4</a:t>
            </a:r>
            <a:endParaRPr b="0" lang="en-US" sz="4800" spc="-1" strike="noStrike">
              <a:solidFill>
                <a:srgbClr val="404040"/>
              </a:solidFill>
              <a:latin typeface="Calibri Light"/>
            </a:endParaRPr>
          </a:p>
        </p:txBody>
      </p:sp>
      <p:sp>
        <p:nvSpPr>
          <p:cNvPr id="42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spection processes vary, but typically include some planning and follow-up activities in addition to the core inspection activit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ormality and structure of inspections may vary, from very informal reviews and walkthroughs, to fairly formal variations of Fagan inspection, to correctness inspections approaching the rigor and formality of formal methods</a:t>
            </a:r>
            <a:endParaRPr b="0" lang="en-US" sz="2800" spc="-1" strike="noStrike">
              <a:solidFill>
                <a:srgbClr val="404040"/>
              </a:solidFill>
              <a:latin typeface="Calibri"/>
            </a:endParaRPr>
          </a:p>
        </p:txBody>
      </p:sp>
      <p:sp>
        <p:nvSpPr>
          <p:cNvPr id="42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3A1B-AD3C-486E-8F36-C81E47B6C1B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Non-Test Defect Removal Methods</a:t>
            </a:r>
            <a:endParaRPr b="0" lang="en-US" sz="4800" spc="-1" strike="noStrike">
              <a:solidFill>
                <a:srgbClr val="404040"/>
              </a:solidFill>
              <a:latin typeface="Calibri Light"/>
            </a:endParaRPr>
          </a:p>
        </p:txBody>
      </p:sp>
      <p:sp>
        <p:nvSpPr>
          <p:cNvPr id="423"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equirement inspec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sign inspec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ode inspec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est plan review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est-case inspection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User documentation editing or reviews</a:t>
            </a:r>
            <a:endParaRPr b="0" lang="en-US" sz="2000" spc="-1" strike="noStrike">
              <a:solidFill>
                <a:srgbClr val="404040"/>
              </a:solidFill>
              <a:latin typeface="Calibri"/>
            </a:endParaRPr>
          </a:p>
        </p:txBody>
      </p:sp>
      <p:sp>
        <p:nvSpPr>
          <p:cNvPr id="42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1266-3CAD-49A8-9750-D7306DD285E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Testing Defect Removal Methods</a:t>
            </a:r>
            <a:endParaRPr b="0" lang="en-US" sz="4800" spc="-1" strike="noStrike">
              <a:solidFill>
                <a:srgbClr val="404040"/>
              </a:solidFill>
              <a:latin typeface="Calibri Light"/>
            </a:endParaRPr>
          </a:p>
        </p:txBody>
      </p:sp>
      <p:sp>
        <p:nvSpPr>
          <p:cNvPr id="426"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Unit test by individual programmer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New function test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egression test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erformance test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tegration test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ystem testing</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eld test (external beta test)</a:t>
            </a:r>
            <a:endParaRPr b="0" lang="en-US" sz="2000" spc="-1" strike="noStrike">
              <a:solidFill>
                <a:srgbClr val="404040"/>
              </a:solidFill>
              <a:latin typeface="Calibri"/>
            </a:endParaRPr>
          </a:p>
        </p:txBody>
      </p:sp>
      <p:sp>
        <p:nvSpPr>
          <p:cNvPr id="42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9E73-08AD-4323-9AD9-0DCA32464A9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ect Removal</a:t>
            </a:r>
            <a:endParaRPr b="0" lang="en-US" sz="4800" spc="-1" strike="noStrike">
              <a:solidFill>
                <a:srgbClr val="404040"/>
              </a:solidFill>
              <a:latin typeface="Calibri Light"/>
            </a:endParaRPr>
          </a:p>
        </p:txBody>
      </p:sp>
      <p:sp>
        <p:nvSpPr>
          <p:cNvPr id="429"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Not all defects are equal when it comes to removal</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equirements errors, design problems, and “bad fixes” are particularly difficul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9C3E-EF71-47D0-8523-53C36458F0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oftware Defect Origins &amp; Defect Removal Effectiveness</a:t>
            </a:r>
            <a:endParaRPr b="0" lang="en-US" sz="4800" spc="-1" strike="noStrike">
              <a:solidFill>
                <a:srgbClr val="404040"/>
              </a:solidFill>
              <a:latin typeface="Calibri Light"/>
            </a:endParaRPr>
          </a:p>
        </p:txBody>
      </p:sp>
      <p:graphicFrame>
        <p:nvGraphicFramePr>
          <p:cNvPr id="432" name="Object 3"/>
          <p:cNvGraphicFramePr/>
          <p:nvPr/>
        </p:nvGraphicFramePr>
        <p:xfrm>
          <a:off x="901800" y="1981080"/>
          <a:ext cx="7340400" cy="3886200"/>
        </p:xfrm>
        <a:graphic>
          <a:graphicData uri="http://schemas.openxmlformats.org/presentationml/2006/ole">
            <p:oleObj r:id="rId1" spid="">
              <p:embed/>
              <p:pic>
                <p:nvPicPr>
                  <p:cNvPr id="433" name="Object 3" descr=""/>
                  <p:cNvPicPr/>
                  <p:nvPr/>
                </p:nvPicPr>
                <p:blipFill>
                  <a:blip r:embed="rId2"/>
                  <a:stretch/>
                </p:blipFill>
                <p:spPr>
                  <a:xfrm>
                    <a:off x="901800" y="1981080"/>
                    <a:ext cx="7340400" cy="3886200"/>
                  </a:xfrm>
                  <a:prstGeom prst="rect">
                    <a:avLst/>
                  </a:prstGeom>
                  <a:ln w="0">
                    <a:noFill/>
                  </a:ln>
                </p:spPr>
              </p:pic>
            </p:oleObj>
          </a:graphicData>
        </a:graphic>
      </p:graphicFrame>
      <p:sp>
        <p:nvSpPr>
          <p:cNvPr id="4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FFAE-7CFF-42AD-8566-F7C569330A2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ffects of Software Defects - 1</a:t>
            </a:r>
            <a:endParaRPr b="0" lang="en-US" sz="4800" spc="-1" strike="noStrike">
              <a:solidFill>
                <a:srgbClr val="404040"/>
              </a:solidFill>
              <a:latin typeface="Calibri Light"/>
            </a:endParaRPr>
          </a:p>
        </p:txBody>
      </p:sp>
      <p:sp>
        <p:nvSpPr>
          <p:cNvPr id="35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ugs can have a wide variety of effects, with varying levels of inconvenience to the user of the software. Some bugs have only a subtle effect on the program’s functionality, and may thus lie undetected for a long time. More serious bugs may cause the software to crash or freeze leading to a denial of service</a:t>
            </a:r>
            <a:endParaRPr b="0" lang="en-US" sz="2000" spc="-1" strike="noStrike">
              <a:solidFill>
                <a:srgbClr val="404040"/>
              </a:solidFill>
              <a:latin typeface="Calibri"/>
            </a:endParaRPr>
          </a:p>
        </p:txBody>
      </p:sp>
      <p:sp>
        <p:nvSpPr>
          <p:cNvPr id="35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42FB-FB36-4F9E-8F2D-3D9B9B3BBA9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21880" y="287280"/>
            <a:ext cx="7543800" cy="1449360"/>
          </a:xfrm>
          <a:prstGeom prst="rect">
            <a:avLst/>
          </a:prstGeom>
          <a:noFill/>
          <a:ln w="0">
            <a:noFill/>
          </a:ln>
        </p:spPr>
        <p:txBody>
          <a:bodyPr lIns="90360" rIns="90360" tIns="44280" bIns="442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ect Removal Efficiency</a:t>
            </a:r>
            <a:endParaRPr b="0" lang="en-US" sz="4800" spc="-1" strike="noStrike">
              <a:solidFill>
                <a:srgbClr val="404040"/>
              </a:solidFill>
              <a:latin typeface="Calibri Light"/>
            </a:endParaRPr>
          </a:p>
        </p:txBody>
      </p:sp>
      <p:sp>
        <p:nvSpPr>
          <p:cNvPr id="436" name=""/>
          <p:cNvSpPr txBox="1"/>
          <p:nvPr/>
        </p:nvSpPr>
        <p:spPr>
          <a:xfrm>
            <a:off x="821880" y="1846440"/>
            <a:ext cx="7543800" cy="4022640"/>
          </a:xfrm>
          <a:prstGeom prst="rect">
            <a:avLst/>
          </a:prstGeom>
          <a:noFill/>
          <a:ln w="0">
            <a:noFill/>
          </a:ln>
        </p:spPr>
        <p:txBody>
          <a:bodyPr lIns="90360" rIns="90360" tIns="44280" bIns="4428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ccumulation of defect statistics for errors found prior to delivery, and then for a predetermined period after deployment (usually one year)</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US averages: 85%</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est projects in best US companies: 99%</a:t>
            </a:r>
            <a:endParaRPr b="0" lang="en-US" sz="2000" spc="-1" strike="noStrike">
              <a:solidFill>
                <a:srgbClr val="404040"/>
              </a:solidFill>
              <a:latin typeface="Calibri"/>
            </a:endParaRPr>
          </a:p>
        </p:txBody>
      </p:sp>
      <p:sp>
        <p:nvSpPr>
          <p:cNvPr id="43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28BB-C4F5-4185-AEA4-5B8367DC5B4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ummary</a:t>
            </a:r>
            <a:endParaRPr b="0" lang="en-US" sz="4800" spc="-1" strike="noStrike">
              <a:solidFill>
                <a:srgbClr val="404040"/>
              </a:solidFill>
              <a:latin typeface="Calibri Light"/>
            </a:endParaRPr>
          </a:p>
        </p:txBody>
      </p:sp>
      <p:sp>
        <p:nvSpPr>
          <p:cNvPr id="43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 today’s lecture, we talked about software defects and where are they introduced in the software produc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e discussed the approaches to eliminating these defects</a:t>
            </a:r>
            <a:endParaRPr b="0" lang="en-US" sz="2000" spc="-1" strike="noStrike">
              <a:solidFill>
                <a:srgbClr val="404040"/>
              </a:solidFill>
              <a:latin typeface="Calibri"/>
            </a:endParaRPr>
          </a:p>
        </p:txBody>
      </p:sp>
      <p:sp>
        <p:nvSpPr>
          <p:cNvPr id="44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76B2-033F-4370-A441-267B4D3781E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References</a:t>
            </a:r>
            <a:endParaRPr b="0" lang="en-US" sz="4800" spc="-1" strike="noStrike">
              <a:solidFill>
                <a:srgbClr val="404040"/>
              </a:solidFill>
              <a:latin typeface="Calibri Light"/>
            </a:endParaRPr>
          </a:p>
        </p:txBody>
      </p:sp>
      <p:sp>
        <p:nvSpPr>
          <p:cNvPr id="44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oftware Quality: Analysis and Guidelines for Success by Capers Jon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oftware Quality Engineering: Testing, Quality Assurance, and Quantifiable Improvement by Jeff Tian</a:t>
            </a:r>
            <a:endParaRPr b="0" lang="en-US" sz="2000" spc="-1" strike="noStrike">
              <a:solidFill>
                <a:srgbClr val="404040"/>
              </a:solidFill>
              <a:latin typeface="Calibri"/>
            </a:endParaRPr>
          </a:p>
        </p:txBody>
      </p:sp>
      <p:sp>
        <p:nvSpPr>
          <p:cNvPr id="44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F634-7F83-4CD7-A3CF-12D1CD8223F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ffects of Software Defects - 2</a:t>
            </a:r>
            <a:endParaRPr b="0" lang="en-US" sz="4800" spc="-1" strike="noStrike">
              <a:solidFill>
                <a:srgbClr val="404040"/>
              </a:solidFill>
              <a:latin typeface="Calibri Light"/>
            </a:endParaRPr>
          </a:p>
        </p:txBody>
      </p:sp>
      <p:sp>
        <p:nvSpPr>
          <p:cNvPr id="35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thers qualify as security bugs and might for example enable a malicious user to bypass access controls in order to obtain unauthorized privileges</a:t>
            </a:r>
            <a:endParaRPr b="0" lang="en-US" sz="2000" spc="-1" strike="noStrike">
              <a:solidFill>
                <a:srgbClr val="404040"/>
              </a:solidFill>
              <a:latin typeface="Calibri"/>
            </a:endParaRPr>
          </a:p>
        </p:txBody>
      </p:sp>
      <p:sp>
        <p:nvSpPr>
          <p:cNvPr id="358"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2C75-ECF3-46A7-B8B5-F7F0B2B8B82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ffects of Software Defects - 3</a:t>
            </a:r>
            <a:endParaRPr b="0" lang="en-US" sz="4800" spc="-1" strike="noStrike">
              <a:solidFill>
                <a:srgbClr val="404040"/>
              </a:solidFill>
              <a:latin typeface="Calibri Light"/>
            </a:endParaRPr>
          </a:p>
        </p:txBody>
      </p:sp>
      <p:sp>
        <p:nvSpPr>
          <p:cNvPr id="36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results of bugs may be extremely seriou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 1996, the European Space Agency’s US $1 billion prototype </a:t>
            </a:r>
            <a:r>
              <a:rPr b="0" lang="en-US" sz="2000" spc="-1" strike="noStrike">
                <a:solidFill>
                  <a:srgbClr val="0000cc"/>
                </a:solidFill>
                <a:latin typeface="Calibri"/>
              </a:rPr>
              <a:t>Arian 5</a:t>
            </a:r>
            <a:r>
              <a:rPr b="0" lang="en-US" sz="2000" spc="-1" strike="noStrike">
                <a:solidFill>
                  <a:srgbClr val="404040"/>
                </a:solidFill>
                <a:latin typeface="Calibri"/>
              </a:rPr>
              <a:t> rocket was destroyed less than a minute after launch, due a bug in the on-board guidance computer program</a:t>
            </a:r>
            <a:endParaRPr b="0" lang="en-US" sz="2000" spc="-1" strike="noStrike">
              <a:solidFill>
                <a:srgbClr val="404040"/>
              </a:solidFill>
              <a:latin typeface="Calibri"/>
            </a:endParaRPr>
          </a:p>
        </p:txBody>
      </p:sp>
      <p:sp>
        <p:nvSpPr>
          <p:cNvPr id="36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E759-16E4-41CC-91C4-F6B5CEE68FD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ffects of Software Defects - 4</a:t>
            </a: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 June 1994, a Royal Air Force </a:t>
            </a:r>
            <a:r>
              <a:rPr b="0" lang="en-US" sz="2000" spc="-1" strike="noStrike">
                <a:solidFill>
                  <a:srgbClr val="0000cc"/>
                </a:solidFill>
                <a:latin typeface="Calibri"/>
              </a:rPr>
              <a:t>Chinook</a:t>
            </a:r>
            <a:r>
              <a:rPr b="0" lang="en-US" sz="2000" spc="-1" strike="noStrike">
                <a:solidFill>
                  <a:srgbClr val="404040"/>
                </a:solidFill>
                <a:latin typeface="Calibri"/>
              </a:rPr>
              <a:t> crashed into the Mull of Kintyre, killing 29 people. An investigation uncovered sufficient evidence to convince that it may have been caused by a software bug in the aircraft’s engine control computer</a:t>
            </a:r>
            <a:endParaRPr b="0" lang="en-US" sz="2000" spc="-1" strike="noStrike">
              <a:solidFill>
                <a:srgbClr val="404040"/>
              </a:solidFill>
              <a:latin typeface="Calibri"/>
            </a:endParaRPr>
          </a:p>
        </p:txBody>
      </p:sp>
      <p:sp>
        <p:nvSpPr>
          <p:cNvPr id="36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EA96-DE27-43BE-9E79-31D2AEBC3B9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ffects of Software Defects - 5</a:t>
            </a:r>
            <a:endParaRPr b="0" lang="en-US" sz="4800" spc="-1" strike="noStrike">
              <a:solidFill>
                <a:srgbClr val="404040"/>
              </a:solidFill>
              <a:latin typeface="Calibri Light"/>
            </a:endParaRPr>
          </a:p>
        </p:txBody>
      </p:sp>
      <p:sp>
        <p:nvSpPr>
          <p:cNvPr id="36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 2002, a study commissioned by the US Department of Commerce’ National Institute of Standards and Technology concluded that software bugs are so prevalent and detrimental that they cost the US economy and estimated US $59 billion annually, or about 0.6 percent of the gross domestic product</a:t>
            </a:r>
            <a:endParaRPr b="0" lang="en-US" sz="2000" spc="-1" strike="noStrike">
              <a:solidFill>
                <a:srgbClr val="404040"/>
              </a:solidFill>
              <a:latin typeface="Calibri"/>
            </a:endParaRPr>
          </a:p>
        </p:txBody>
      </p:sp>
      <p:sp>
        <p:nvSpPr>
          <p:cNvPr id="36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40AF-FF8A-4469-ACE7-D2566979379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oftware Defects in Six Application Size Ranges</a:t>
            </a:r>
            <a:endParaRPr b="0" lang="en-US" sz="4800" spc="-1" strike="noStrike">
              <a:solidFill>
                <a:srgbClr val="404040"/>
              </a:solidFill>
              <a:latin typeface="Calibri Light"/>
            </a:endParaRPr>
          </a:p>
        </p:txBody>
      </p:sp>
      <p:sp>
        <p:nvSpPr>
          <p:cNvPr id="369" name=""/>
          <p:cNvSpPr txBox="1"/>
          <p:nvPr/>
        </p:nvSpPr>
        <p:spPr>
          <a:xfrm>
            <a:off x="685800" y="2286000"/>
            <a:ext cx="7772400" cy="41148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 function point or 125 C statement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0 function points or 1,250 C statement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00 function points or 12,500 C statement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000 function points or 125,000 C statement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0,000 function points or 1,250,000 C statement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100,000 function points or 12,500,000 C statements</a:t>
            </a:r>
            <a:endParaRPr b="0" lang="en-US" sz="2800" spc="-1" strike="noStrike">
              <a:solidFill>
                <a:srgbClr val="404040"/>
              </a:solidFill>
              <a:latin typeface="Calibri"/>
            </a:endParaRPr>
          </a:p>
        </p:txBody>
      </p:sp>
      <p:sp>
        <p:nvSpPr>
          <p:cNvPr id="37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9818-874A-4E82-97CE-78D36964ED8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ategories of Software Defects</a:t>
            </a:r>
            <a:endParaRPr b="0" lang="en-US" sz="4800" spc="-1" strike="noStrike">
              <a:solidFill>
                <a:srgbClr val="404040"/>
              </a:solidFill>
              <a:latin typeface="Calibri Light"/>
            </a:endParaRPr>
          </a:p>
        </p:txBody>
      </p:sp>
      <p:sp>
        <p:nvSpPr>
          <p:cNvPr id="37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of commiss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of omiss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of clarity and ambiguity</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rrors of speed or capacity</a:t>
            </a:r>
            <a:endParaRPr b="0" lang="en-US" sz="2000" spc="-1" strike="noStrike">
              <a:solidFill>
                <a:srgbClr val="404040"/>
              </a:solidFill>
              <a:latin typeface="Calibri"/>
            </a:endParaRPr>
          </a:p>
        </p:txBody>
      </p:sp>
      <p:sp>
        <p:nvSpPr>
          <p:cNvPr id="37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F884-35B5-4352-8866-810F78CF6BC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09:03:38Z</dcterms:created>
  <dc:creator>Ghulam Ahmad Farrukh</dc:creator>
  <dc:description/>
  <dc:language>en-US</dc:language>
  <cp:lastModifiedBy>Anas</cp:lastModifiedBy>
  <dcterms:modified xsi:type="dcterms:W3CDTF">2020-03-11T16:37:43Z</dcterms:modified>
  <cp:revision>197</cp:revision>
  <dc:subject/>
  <dc:title>Software Quality Management</dc:title>
</cp:coreProperties>
</file>